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F269-C1DD-4A51-A07F-13EF91613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7447-C622-4D41-B87A-1877EF8AA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7E4AC2-B2C1-4A35-8D88-550368C81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5EEF-A6C5-441C-8BF7-B4B66DE9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AB8-AA3F-4821-9A8D-B2A762F1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F2E-947A-4C39-98B9-97ABC049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ABFE-ED8C-419B-B7FE-A040954A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390E-5069-47B2-8F8E-BE29075B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C3EE-F4E6-4F14-AA6C-247DFBCC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3BFB-7BF0-4B90-9C52-0A81041E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65DB-11B5-4006-8B5E-08FB51EB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7A13-FCD6-4290-898D-5F49AC80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E91E-65C3-4960-83D3-0D456AAA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F72-2E5C-4DCF-B951-5B226577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445C-5E1C-406B-A8AC-B34E2F93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D94B-964A-4BC9-97FD-8062C1960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160" y="2286000"/>
            <a:ext cx="5715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13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ЗИТЕТ У КРАГУЈЕВЦУ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ФАКУЛТЕТ МЕДИЦИНСКИХ НАУ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28560" y="2971800"/>
            <a:ext cx="3786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 др Ненад Петрови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8600" y="365724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6560" indent="-2865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6560" indent="-2865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КЛИНИЧКИХ СЛУЧАЈЕВА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6560" indent="-2865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6560" indent="-2865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Grb_uni"/>
          <p:cNvPicPr/>
          <p:nvPr/>
        </p:nvPicPr>
        <p:blipFill>
          <a:blip r:embed="rId1"/>
          <a:stretch/>
        </p:blipFill>
        <p:spPr>
          <a:xfrm>
            <a:off x="3733920" y="533520"/>
            <a:ext cx="1162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</a:t>
            </a:r>
            <a:br>
              <a:rPr sz="4400"/>
            </a:b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илна дегенерација маку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E:\SLIKE ZA NADOKNADU VEZBI\vlazna AMD 3.jpg"/>
          <p:cNvPicPr/>
          <p:nvPr/>
        </p:nvPicPr>
        <p:blipFill>
          <a:blip r:embed="rId1"/>
          <a:stretch/>
        </p:blipFill>
        <p:spPr>
          <a:xfrm>
            <a:off x="2057400" y="2209680"/>
            <a:ext cx="487692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ацијенткиња стара 73 године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зненадни пад вида на левом оку са кривљењем посматраних предмета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 раније је примећивала постепени пад видне оштрине на оба ока али је то приписивала постојању катаракте</a:t>
            </a:r>
            <a:br>
              <a:rPr sz="2400"/>
            </a:b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талмолошки статус:</a:t>
            </a:r>
            <a:br>
              <a:rPr sz="2400"/>
            </a:b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D: 0.3 cum +1.0Dsph=0.7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: 18mmHg</a:t>
            </a:r>
            <a:br>
              <a:rPr sz="2400"/>
            </a:b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/60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TOS: 17mmH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04920" y="350532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мслер те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морфопсије  посматраних лик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E:\SLIKE ZA NADOKNADU VEZBI\AMD simptomi 1.jpg"/>
          <p:cNvPicPr/>
          <p:nvPr/>
        </p:nvPicPr>
        <p:blipFill>
          <a:blip r:embed="rId1"/>
          <a:stretch/>
        </p:blipFill>
        <p:spPr>
          <a:xfrm>
            <a:off x="4343400" y="3657600"/>
            <a:ext cx="4348080" cy="2895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E:\SLIKE ZA NADOKNADU VEZBI\Amsler 2.jpg"/>
          <p:cNvPicPr/>
          <p:nvPr/>
        </p:nvPicPr>
        <p:blipFill>
          <a:blip r:embed="rId2"/>
          <a:stretch/>
        </p:blipFill>
        <p:spPr>
          <a:xfrm>
            <a:off x="609480" y="4762440"/>
            <a:ext cx="318312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иомикроскопија Фундус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ретинална хеморагија у пределу макуле величине око 2-3 мм са хеморагичном аблацијом неуро-ретине и ретиналног пигментног епител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627080" y="457200"/>
            <a:ext cx="43642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луоресцеинска ангиограф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и интензивни излив контраста из новоформираног субретиналног крвног су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E:\SLIKE ZA NADOKNADU VEZBI\Age-related-macular-degeneration-AMD-and-fluorescein-angiography.png"/>
          <p:cNvPicPr/>
          <p:nvPr/>
        </p:nvPicPr>
        <p:blipFill>
          <a:blip r:embed="rId1"/>
          <a:stretch/>
        </p:blipFill>
        <p:spPr>
          <a:xfrm>
            <a:off x="1066680" y="3124080"/>
            <a:ext cx="714240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327636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al Coherence Tomography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лација неуро-ретине и ретиналног пигментног епитела у пределу макул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1920" y="3373560"/>
            <a:ext cx="358164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Једина терапијска оп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витреална апликација инхибитора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GF-a (Bevacizumab, Ranibizumab, Pegaptanib, Aflibercept..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E:\SLIKE ZA NADOKNADU VEZBI\OCT vlazna AMD 2.jpg"/>
          <p:cNvPicPr/>
          <p:nvPr/>
        </p:nvPicPr>
        <p:blipFill>
          <a:blip r:embed="rId1"/>
          <a:stretch/>
        </p:blipFill>
        <p:spPr>
          <a:xfrm>
            <a:off x="3733920" y="304920"/>
            <a:ext cx="4495680" cy="2995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E:\SLIKE ZA NADOKNADU VEZBI\anti VEGF injekcija 2.jpg"/>
          <p:cNvPicPr/>
          <p:nvPr/>
        </p:nvPicPr>
        <p:blipFill>
          <a:blip r:embed="rId2"/>
          <a:stretch/>
        </p:blipFill>
        <p:spPr>
          <a:xfrm>
            <a:off x="3740040" y="3373560"/>
            <a:ext cx="4489560" cy="30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кос примењеној анти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GF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и на месту раније присутне субретиналне хеморагије развио се дисциформни ожиљак у макули са ниском видном оштрином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/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I:\slike predavanje retina\disciformni oziljak vlazna AMD 2.jpg"/>
          <p:cNvPicPr/>
          <p:nvPr/>
        </p:nvPicPr>
        <p:blipFill>
          <a:blip r:embed="rId1"/>
          <a:stretch/>
        </p:blipFill>
        <p:spPr>
          <a:xfrm>
            <a:off x="2057400" y="1981080"/>
            <a:ext cx="51814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икроскопија десног очног дна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ње Друза које могу прогредирати ка Влажној форми сенилне дегенерације макул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181120" y="1904760"/>
            <a:ext cx="3505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                 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DS 2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вне офталмолошке контроле ради благовремене и ране детекције развоја субретиналног фиброваскуларног комплек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E:\SLIKE ZA NADOKNADU VEZBI\drusen-oct.jpg"/>
          <p:cNvPicPr/>
          <p:nvPr/>
        </p:nvPicPr>
        <p:blipFill>
          <a:blip r:embed="rId1"/>
          <a:stretch/>
        </p:blipFill>
        <p:spPr>
          <a:xfrm>
            <a:off x="533520" y="1905120"/>
            <a:ext cx="436248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</a:t>
            </a:r>
            <a:br>
              <a:rPr sz="4400"/>
            </a:b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бетска Ретинопат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E:\SLIKE ZA NADOKNADU VEZBI\Proliferative DR 1.jpg"/>
          <p:cNvPicPr/>
          <p:nvPr/>
        </p:nvPicPr>
        <p:blipFill>
          <a:blip r:embed="rId1"/>
          <a:stretch/>
        </p:blipFill>
        <p:spPr>
          <a:xfrm>
            <a:off x="1600200" y="2233440"/>
            <a:ext cx="5715000" cy="41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 стар 63 године</a:t>
            </a:r>
            <a:br>
              <a:rPr sz="2400"/>
            </a:b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бетичар 22 године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ZDM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 →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DM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 година)</a:t>
            </a:r>
            <a:br>
              <a:rPr sz="2400"/>
            </a:b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а гликемијска контрола (повремена и нередовна провера вредности гликозованог хемоглобина (9.8-12.5 %) </a:t>
            </a:r>
            <a:br>
              <a:rPr sz="2400"/>
            </a:b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јазан, лош липидни профил</a:t>
            </a:r>
            <a:br>
              <a:rPr sz="2400"/>
            </a:b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оничар  ТА 170/90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320004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довне офталмолошке контро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предходних третмана Аргон ласер фотокоагул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ка испред десног ока која траје неколико неде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талмолошки стату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: L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на задња субкапсуларна и кортикална катара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D: 0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: 19mmH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: 0.6 cum +0.75Dp=0.8       TOD: 20mmH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иомикроскопиј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иферативна Дијабетска Ретинопатија ( ПДР) са преретиналном хеморагијо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04920" y="137160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2" name="Picture 2" descr="E:\SLIKE ZA NADOKNADU VEZBI\PDR + edem makule.jpg"/>
          <p:cNvPicPr/>
          <p:nvPr/>
        </p:nvPicPr>
        <p:blipFill>
          <a:blip r:embed="rId1"/>
          <a:stretch/>
        </p:blipFill>
        <p:spPr>
          <a:xfrm>
            <a:off x="457200" y="2438280"/>
            <a:ext cx="4335480" cy="3500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E:\SLIKE ZA NADOKNADU VEZBI\PDR preretinalna hemoragija.jpg"/>
          <p:cNvPicPr/>
          <p:nvPr/>
        </p:nvPicPr>
        <p:blipFill>
          <a:blip r:embed="rId2"/>
          <a:stretch/>
        </p:blipFill>
        <p:spPr>
          <a:xfrm>
            <a:off x="4876920" y="2452680"/>
            <a:ext cx="375732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4191120" cy="29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луоресцеинска ангиографија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и интензивни излив контраста из неоваскуларних крвних судова као и генерализована хиперпермеабилност крвних судова у макуларној реги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28600" y="3505320"/>
            <a:ext cx="4114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но задебљање ретине у пределу макуле  са интра-ретиналним цистичним просторима           (Дијабетски  цистоидни макуларни едем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F:\SLIKE ZA NADOKNADU VEZBI\PDR + FA 2.jpg"/>
          <p:cNvPicPr/>
          <p:nvPr/>
        </p:nvPicPr>
        <p:blipFill>
          <a:blip r:embed="rId1"/>
          <a:stretch/>
        </p:blipFill>
        <p:spPr>
          <a:xfrm>
            <a:off x="4495680" y="380880"/>
            <a:ext cx="4524480" cy="2828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F:\SLIKE ZA NADOKNADU VEZBI\Diabetic-Macular-Edema kolor +OCT.jpg"/>
          <p:cNvPicPr/>
          <p:nvPr/>
        </p:nvPicPr>
        <p:blipFill>
          <a:blip r:embed="rId2"/>
          <a:stretch/>
        </p:blipFill>
        <p:spPr>
          <a:xfrm>
            <a:off x="5410080" y="3330720"/>
            <a:ext cx="2743200" cy="34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</a:t>
            </a:r>
            <a:br>
              <a:rPr sz="4400"/>
            </a:b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матогена аблација рети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E:\SLIKE ZA NADOKNADU VEZBI\ablacija retine 3.jpg"/>
          <p:cNvPicPr/>
          <p:nvPr/>
        </p:nvPicPr>
        <p:blipFill>
          <a:blip r:embed="rId1"/>
          <a:stretch/>
        </p:blipFill>
        <p:spPr>
          <a:xfrm>
            <a:off x="1523880" y="213372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 третман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нтравитреална апликација анти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GF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са                                    (због постојања едема који захвата центар макуле као и смањења стимулације нео-ангиогенезе)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почети хитну Пан-ретиналну ласер фотокоагулацију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бољшати квалитет метаболичке контроле, липидног статуса као и регулација крвног притиска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F:\SLIKE ZA NADOKNADU VEZBI\Panretinalna LFC 2.jpg"/>
          <p:cNvPicPr/>
          <p:nvPr/>
        </p:nvPicPr>
        <p:blipFill>
          <a:blip r:embed="rId1"/>
          <a:stretch/>
        </p:blipFill>
        <p:spPr>
          <a:xfrm>
            <a:off x="5424480" y="2438280"/>
            <a:ext cx="3298680" cy="2519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F:\SLIKE ZA NADOKNADU VEZBI\Argon LFC.jpg"/>
          <p:cNvPicPr/>
          <p:nvPr/>
        </p:nvPicPr>
        <p:blipFill>
          <a:blip r:embed="rId2"/>
          <a:stretch/>
        </p:blipFill>
        <p:spPr>
          <a:xfrm>
            <a:off x="6095880" y="5024520"/>
            <a:ext cx="2152800" cy="1681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:\SLIKE ZA NADOKNADU VEZBI\Panretinalna LFC 1.jpg"/>
          <p:cNvPicPr/>
          <p:nvPr/>
        </p:nvPicPr>
        <p:blipFill>
          <a:blip r:embed="rId3"/>
          <a:stretch/>
        </p:blipFill>
        <p:spPr>
          <a:xfrm>
            <a:off x="304920" y="2868480"/>
            <a:ext cx="502416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цијенткиња стара 54 године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убитак вида на десном оку од пре 3 дана (као да јој се навукла „завеса“ испред ока)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опија на оба ока око -5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 (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пна корекција од детињства)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 2 недеље приметила је „паучину“ на десном оку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ратила се офталмологу и приликом првог прегледа установљено је постојање парцијалне хеморагије у стакластом телу и постериорно одвајање стакластог тел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g OU Myopia;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Ablatio posteriores corpori vitrei; Haemophthalmus partial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28240" y="3809880"/>
            <a:ext cx="5257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на оштрина и очни притисак приликом првог преглед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D: cum -5.50Dsph=0.8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: cum-5.50Dsph=0.9-1.0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:12mmHg   TOS:14mmH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кињи дат савет: Мировањ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791320" y="3633840"/>
            <a:ext cx="2822400" cy="29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талмолошки статус приликом тренутног преглед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D: L+P+ (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ћај свела са тачном пројекцијом)</a:t>
            </a:r>
            <a:br>
              <a:rPr sz="2400"/>
            </a:b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: cum-5.50Dsph=0.9-1.0       </a:t>
            </a:r>
            <a:br>
              <a:rPr sz="2400"/>
            </a:b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:10mmHg   TOS:14mmHg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le 3"/>
          <p:cNvSpPr/>
          <p:nvPr/>
        </p:nvSpPr>
        <p:spPr>
          <a:xfrm>
            <a:off x="457200" y="22860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 marL="209160" indent="-20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икроскопија очног дна  призмом са 3 огледала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dman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а призма) → Аблација ретине која захвата сва 4 ретинална квадранта и макулу</a:t>
            </a:r>
            <a:br>
              <a:rPr sz="2400"/>
            </a:br>
            <a:br>
              <a:rPr sz="2400"/>
            </a:b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E:\SLIKE ZA NADOKNADU VEZBI\biomikroskopija.jpg"/>
          <p:cNvPicPr/>
          <p:nvPr/>
        </p:nvPicPr>
        <p:blipFill>
          <a:blip r:embed="rId1"/>
          <a:stretch/>
        </p:blipFill>
        <p:spPr>
          <a:xfrm>
            <a:off x="457200" y="3429000"/>
            <a:ext cx="3809880" cy="2789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E:\SLIKE ZA NADOKNADU VEZBI\Goldman prizma.png"/>
          <p:cNvPicPr/>
          <p:nvPr/>
        </p:nvPicPr>
        <p:blipFill>
          <a:blip r:embed="rId2"/>
          <a:stretch/>
        </p:blipFill>
        <p:spPr>
          <a:xfrm>
            <a:off x="4800600" y="3367080"/>
            <a:ext cx="3733920" cy="28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2520" y="2514600"/>
            <a:ext cx="3962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456840"/>
            <a:ext cx="4122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икроскопски изглед аблације рет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952520" y="380880"/>
            <a:ext cx="40388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ографски изглед аблације рет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E:\SLIKE ZA NADOKNADU VEZBI\ablacija retine 2.jpg"/>
          <p:cNvPicPr/>
          <p:nvPr/>
        </p:nvPicPr>
        <p:blipFill>
          <a:blip r:embed="rId1"/>
          <a:stretch/>
        </p:blipFill>
        <p:spPr>
          <a:xfrm>
            <a:off x="380880" y="2514600"/>
            <a:ext cx="4122720" cy="327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E:\SLIKE ZA NADOKNADU VEZBI\EHO Ablacija 2.jpg"/>
          <p:cNvPicPr/>
          <p:nvPr/>
        </p:nvPicPr>
        <p:blipFill>
          <a:blip r:embed="rId2"/>
          <a:stretch/>
        </p:blipFill>
        <p:spPr>
          <a:xfrm>
            <a:off x="4876920" y="2514600"/>
            <a:ext cx="40827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8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директна офталмоскопија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Кључно је идентификовати постојање, локализацију, величину и број  ретиналних руптура због избора оперативне методе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leral buckling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уматска ретинопексија, Парс Плана Витректомија са ендотампонадом силиконским уљем или експанзионим гасом..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E:\SLIKE ZA NADOKNADU VEZBI\indirect-ophthalmoscopy 2.jpg"/>
          <p:cNvPicPr/>
          <p:nvPr/>
        </p:nvPicPr>
        <p:blipFill>
          <a:blip r:embed="rId1"/>
          <a:stretch/>
        </p:blipFill>
        <p:spPr>
          <a:xfrm>
            <a:off x="6019920" y="2438280"/>
            <a:ext cx="2681280" cy="375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E:\SLIKE ZA NADOKNADU VEZBI\indirect-ophthalmoscopy 3.jpg"/>
          <p:cNvPicPr/>
          <p:nvPr/>
        </p:nvPicPr>
        <p:blipFill>
          <a:blip r:embed="rId2"/>
          <a:stretch/>
        </p:blipFill>
        <p:spPr>
          <a:xfrm>
            <a:off x="533520" y="2438280"/>
            <a:ext cx="5003640" cy="37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икроскопијом и индиректном офталмоскопијом утврђено је постојање 2 веће полумесечасте руптуре у горњем темпоралном квадранту (на 10 и 11 сати)                → Оперативни избор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leral buckling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E:\SLIKE ZA NADOKNADU VEZBI\ruptura retine 4.jpg"/>
          <p:cNvPicPr/>
          <p:nvPr/>
        </p:nvPicPr>
        <p:blipFill>
          <a:blip r:embed="rId1"/>
          <a:stretch/>
        </p:blipFill>
        <p:spPr>
          <a:xfrm>
            <a:off x="2022480" y="2743200"/>
            <a:ext cx="5029200" cy="39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leral buckling + Plomba + Kryopexio retin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E:\SLIKE ZA NADOKNADU VEZBI\kriopeksija retine 1.jpg"/>
          <p:cNvPicPr/>
          <p:nvPr/>
        </p:nvPicPr>
        <p:blipFill>
          <a:blip r:embed="rId1"/>
          <a:stretch/>
        </p:blipFill>
        <p:spPr>
          <a:xfrm>
            <a:off x="5745240" y="841320"/>
            <a:ext cx="2782800" cy="3009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E:\SLIKE ZA NADOKNADU VEZBI\buckling 2.jpg"/>
          <p:cNvPicPr/>
          <p:nvPr/>
        </p:nvPicPr>
        <p:blipFill>
          <a:blip r:embed="rId2"/>
          <a:stretch/>
        </p:blipFill>
        <p:spPr>
          <a:xfrm>
            <a:off x="407880" y="841320"/>
            <a:ext cx="5029200" cy="3009960"/>
          </a:xfrm>
          <a:prstGeom prst="rect">
            <a:avLst/>
          </a:prstGeom>
          <a:ln w="0">
            <a:noFill/>
          </a:ln>
        </p:spPr>
      </p:pic>
      <p:sp>
        <p:nvSpPr>
          <p:cNvPr id="74" name="Title 1"/>
          <p:cNvSpPr/>
          <p:nvPr/>
        </p:nvSpPr>
        <p:spPr>
          <a:xfrm>
            <a:off x="304920" y="3886200"/>
            <a:ext cx="86104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успешним затварањем ретиналних руптура већ првог постоперативног дана дошло је до комплетне реапликације одлубљене ретине и постепеног функционалног опоравка видне оштрине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D: cum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50Dsph=0.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7 да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D: cum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6.50Dsph=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2 недеље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D: cum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6.50Dsph=0.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ог месеца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D: cum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6.50Dsph=0.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ст-оперативном току извршен је детаљан биомикроскопски преглед левог очног дна којим је утврђено постојање периферене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tice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ретиналне дегенерације која представља ризик за развој ретиналне аблације → извршена је превентивна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FC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раж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E:\SLIKE ZA NADOKNADU VEZBI\lattice-degeneration.jpg"/>
          <p:cNvPicPr/>
          <p:nvPr/>
        </p:nvPicPr>
        <p:blipFill>
          <a:blip r:embed="rId1"/>
          <a:stretch/>
        </p:blipFill>
        <p:spPr>
          <a:xfrm>
            <a:off x="533520" y="2314440"/>
            <a:ext cx="3733560" cy="3664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E:\SLIKE ZA NADOKNADU VEZBI\LFC baraza 4.jpg"/>
          <p:cNvPicPr/>
          <p:nvPr/>
        </p:nvPicPr>
        <p:blipFill>
          <a:blip r:embed="rId2"/>
          <a:stretch/>
        </p:blipFill>
        <p:spPr>
          <a:xfrm>
            <a:off x="4486320" y="2314440"/>
            <a:ext cx="4311720" cy="366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Windows User</cp:lastModifiedBy>
  <dcterms:modified xsi:type="dcterms:W3CDTF">2020-09-26T16:52:35Z</dcterms:modified>
  <cp:revision>121</cp:revision>
  <dc:subject/>
  <dc:title> УНИВЕРЗИТЕТ У КРАГУЈЕВЦУ МЕДИЦИНСКИ ФАКУЛТЕТ </dc:title>
</cp:coreProperties>
</file>